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A39-7373-4FF0-BFAB-627209F1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5ED-5A4A-4511-93AA-E2E56A8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80E-5E7D-49FA-9FA9-E590E99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975-1C78-4DF6-8473-BA1439D3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CCB-0059-4729-A1D5-725EB96D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98F-9A94-4204-AE4D-9EED390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8BA-8A33-4EDB-B8E4-FF219388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D76-BBD4-4023-A743-09C3E3C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CDB-709B-4058-B878-466450E1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236-5323-4ACC-A385-5CC1D76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29B-093B-4999-B61A-73BBD42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E66-E286-49E5-ABE1-881187B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0F95-DA51-4EDF-A18A-5CD0727FC7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WF phase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ta Basin Development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munication and docum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gress so f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227640" y="55897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Septem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000" y="119700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DC Comm. strategy and projects’ comm. operational plans draf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ingual website running properly and attracting more and more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ed wiki site to facilitate online collaboration among VBDC resear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stakeholder engagement activities took place (e.g. forum on agri water; VBA &amp; GWP network meetings; project platforms; field tour &amp; reflection workshop;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197000"/>
            <a:ext cx="8158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on the VBDC research sent out to stakeholders regul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use of comm tools/channels developed by CPWF global program (e.g. CG Space; Yammer; SlideShare;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documents produced include dissemination materials (flyers, brochures, posters, un/processed video pieces), working papers, conference papers, press articles, and blog pi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amped wiki site to facilitate online collaboration among VBDC resear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ajor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280" y="1125360"/>
            <a:ext cx="84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ort bilingual documentary video to disseminate intermediate or final research results through national TVs in Burkina Faso &amp;  Gha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 intermediate or final research outputs into digestible messages to be disseminated through community radios in interven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&amp; GWP networks and the Learning Group on WRM are used to facilitate the uptake of VBDC research results by policy-makers and water man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ritical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483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get expert support in drawing out, synthesizing, repackaging key messages generated by research project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the effectiveness of 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6:47:18Z</dcterms:created>
  <dc:creator>eleborgne</dc:creator>
  <dc:description/>
  <dc:language>en-US</dc:language>
  <cp:lastModifiedBy>eleborgne</cp:lastModifiedBy>
  <dcterms:modified xsi:type="dcterms:W3CDTF">2012-09-10T12:31:58Z</dcterms:modified>
  <cp:revision>4</cp:revision>
  <dc:subject/>
  <dc:title>CPWF phase 2</dc:title>
</cp:coreProperties>
</file>